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FC69-7617-4CC2-96D2-6BA3AD04F3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Лабораторная рабо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Строение растительной клетки на примере клеток кожицы чешуи лу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7FB0-0600-4072-99E0-5DC4574311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7C41-745A-40FD-9D11-704C0E30C4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Образователь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клетки растущих частей растения, способные к быстрому делению, формируют образовательную ткань. Такая ткань находится на верхушках побегов и кончиках корней. Благодаря быстрому делению ее клеток, стебель и корень растут в длину. Образовательная ткань внутри стеблей и корней обеспечивает их рост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готовиться к п/р по § </a:t>
            </a: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-4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B40-5278-4115-B713-EED2328FE5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7BDF-BBDC-4775-A173-F1D8E7216C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2858-9893-4941-BF72-0BE7856550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E374-B214-426B-9015-F10C8CD8CE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рхности всех органов растения находится покровная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ающая ткань состоит из крупных, неплотно прилегающих друг к другу клеток, которые способны накапливать различные вещества в цитоплазме и вакуо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ткань состоит из клеток, имеющих толстые и прочные обол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ткань состоит из небольших, плотно прилегающих друг к другу клеток, способных к быстрому д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стительные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55D3-4195-4489-A0A1-3CED4D1154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D1CB-5E02-43FE-BE9F-A93DF1B7B7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ная ткань состоит из плотно прилегающих друг к другу клеток и выполняет защитную фун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ожицы лука плотно прилегают друг к другу и выполняют защитную функцию, ведь они находятся на поверхности чешуйки луковицы. Такая ткань называется покровной.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кровная тк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B209-7175-4B8C-B63B-B5EEB51FF6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ханическ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кани состоят из клеток, имеющих очень твердую, толстую оболочку. Поэтому и сама ткань очень прочная. Часто во взрослых клетках такой ткани уже нет цитоплазмы, а осталась только плотная оболочка. Это мертвая ткань. Помнишь, мы уже говорили об этом? Такая ткань образует кору деревьев, скорлупу орехов. Она называется опорной или механическ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B79D-21B1-47FB-89F4-89D4BC7DBF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пасающ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шь клетки мякоти арбуза? Они содержат много садкого клеточного сока. Когда арбуз созревает, в них накапливаются сахар и другие питательные вещества. В клетках клубня картофеля, например, накапливается крахм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9A9-0C8D-47DB-A964-F292B3AD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A5C-ADB0-443F-9288-AAF4DBEE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4C2-F2E4-40ED-9FDD-E921B9CA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DBB-7FE0-40B4-B888-C466EA85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B28E6-F6AF-4615-A008-934EBDA1DF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E6F4C-24E1-477F-A238-FCD7579E25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CEC37-6B2C-4BB6-922F-F831BF8D96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765BE-B0EC-42B9-A299-D7C63CA60E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70008-C93B-40B8-A335-100D5C5F0B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5AE5F-6B66-4BB6-9F56-1F662A637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75644-8960-4BC4-A609-03356F82CD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282-1EE1-4C33-AB28-21CF1487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43969-6087-4552-8F2C-9B6783F930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8CC03-3009-48A3-B34F-5E82E4F73D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BBECB-7410-45A5-A250-42ED15BAD2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3325E-6990-42F3-BC7F-B009FB40C1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16FC2-BA9C-4415-BF95-336912D524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09C26-F9AF-452B-8A3A-470B35CE77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4B775-8A2C-407E-820A-FC5A8A5CA7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D370E-4634-4FF1-84BE-8F0CC7E781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7FFDC-10FB-4C63-A809-1F6D57D1A7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27B21-1B44-4B51-9F3D-66B6A2F8B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A0F-A45B-4585-B5D3-CD5F2C1C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26B03-144B-4D1C-98EE-3F8B47FD38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9EA8A-FCFD-4388-B861-E62CF5D765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C30B8-8135-4C18-B17B-9F39DE3E19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EE4E6-6373-4BE6-9C2E-FF3AC65E4C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DBB69-F42F-4900-BAA1-58E910CE0A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3F6ED-6B2B-4C3A-BED6-FF0B9F1886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29E1F-56BE-4C26-9FA1-2E0A210AC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F74-74C4-4DFD-AC29-B62D6F33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AEC-50D3-472B-8205-A5003FD6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9A9-E7FF-4976-87C7-E508A1DF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E95-1FED-49DA-9961-1B515716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BE5-0E91-4285-A42E-0E95228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5F2-826E-42FF-8888-A4ED0C34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333C-A941-40DB-BFB0-A0DCCBA891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EA34-D426-4892-90EF-08F1BF7713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9C6-AF24-481F-829B-A0B764FD6B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E899-9748-42E3-B058-6F4825020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93592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ткань 4"/>
          <p:cNvPicPr/>
          <p:nvPr/>
        </p:nvPicPr>
        <p:blipFill>
          <a:blip r:embed="rId2"/>
          <a:stretch/>
        </p:blipFill>
        <p:spPr>
          <a:xfrm>
            <a:off x="5500800" y="2714760"/>
            <a:ext cx="3276360" cy="319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6 из 37985"/>
          <p:cNvPicPr/>
          <p:nvPr/>
        </p:nvPicPr>
        <p:blipFill>
          <a:blip r:embed="rId3"/>
          <a:stretch/>
        </p:blipFill>
        <p:spPr>
          <a:xfrm>
            <a:off x="428760" y="26431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4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296200" cy="479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954065"/>
          <p:cNvPicPr/>
          <p:nvPr/>
        </p:nvPicPr>
        <p:blipFill>
          <a:blip r:embed="rId2"/>
          <a:stretch/>
        </p:blipFill>
        <p:spPr>
          <a:xfrm>
            <a:off x="3143160" y="3786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пластиды 1"/>
          <p:cNvPicPr/>
          <p:nvPr/>
        </p:nvPicPr>
        <p:blipFill>
          <a:blip r:embed="rId1"/>
          <a:stretch/>
        </p:blipFill>
        <p:spPr>
          <a:xfrm>
            <a:off x="2071800" y="135720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36" name="Organization Chart 2"/>
          <p:cNvGrpSpPr/>
          <p:nvPr/>
        </p:nvGrpSpPr>
        <p:grpSpPr>
          <a:xfrm>
            <a:off x="431640" y="1568520"/>
            <a:ext cx="8208720" cy="2160000"/>
            <a:chOff x="431640" y="1568520"/>
            <a:chExt cx="8208720" cy="21600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1000" y="1051560"/>
              <a:ext cx="402480" cy="31928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866840" y="2115720"/>
              <a:ext cx="402480" cy="1064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803760" y="2116800"/>
              <a:ext cx="402480" cy="10623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738520" y="1051560"/>
              <a:ext cx="402480" cy="319320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624120" y="1568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4316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окро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55960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Запасающ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68792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Механ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68162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Образовате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4" descr="ткань 1"/>
          <p:cNvPicPr/>
          <p:nvPr/>
        </p:nvPicPr>
        <p:blipFill>
          <a:blip r:embed="rId6"/>
          <a:stretch/>
        </p:blipFill>
        <p:spPr>
          <a:xfrm>
            <a:off x="39528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ткань 2"/>
          <p:cNvPicPr/>
          <p:nvPr/>
        </p:nvPicPr>
        <p:blipFill>
          <a:blip r:embed="rId7"/>
          <a:stretch/>
        </p:blipFill>
        <p:spPr>
          <a:xfrm>
            <a:off x="253044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ткань 3"/>
          <p:cNvPicPr/>
          <p:nvPr/>
        </p:nvPicPr>
        <p:blipFill>
          <a:blip r:embed="rId8"/>
          <a:stretch/>
        </p:blipFill>
        <p:spPr>
          <a:xfrm>
            <a:off x="4667400" y="4221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ткань 4"/>
          <p:cNvPicPr/>
          <p:nvPr/>
        </p:nvPicPr>
        <p:blipFill>
          <a:blip r:embed="rId9"/>
          <a:stretch/>
        </p:blipFill>
        <p:spPr>
          <a:xfrm>
            <a:off x="680400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1428840"/>
          <a:ext cx="9144000" cy="3349440"/>
        </p:xfrm>
        <a:graphic>
          <a:graphicData uri="http://schemas.openxmlformats.org/drawingml/2006/table">
            <a:tbl>
              <a:tblPr/>
              <a:tblGrid>
                <a:gridCol w="2928960"/>
                <a:gridCol w="2214720"/>
                <a:gridCol w="2000160"/>
                <a:gridCol w="2000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тка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м образов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ов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я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Сердце 3"/>
          <p:cNvSpPr/>
          <p:nvPr/>
        </p:nvSpPr>
        <p:spPr>
          <a:xfrm>
            <a:off x="5857920" y="5143680"/>
            <a:ext cx="2786040" cy="1500120"/>
          </a:xfrm>
          <a:custGeom>
            <a:avLst/>
            <a:gdLst/>
            <a:ahLst/>
            <a:rect l="l" t="t" r="r" b="b"/>
            <a:pathLst>
              <a:path w="2786063" h="1500188">
                <a:moveTo>
                  <a:pt x="1393032" y="375047"/>
                </a:moveTo>
                <a:cubicBezTo>
                  <a:pt x="1973461" y="-500063"/>
                  <a:pt x="4237137" y="375047"/>
                  <a:pt x="1393032" y="1500188"/>
                </a:cubicBezTo>
                <a:cubicBezTo>
                  <a:pt x="-1451074" y="375047"/>
                  <a:pt x="812602" y="-500063"/>
                  <a:pt x="1393032" y="375047"/>
                </a:cubicBezTo>
                <a:close/>
              </a:path>
            </a:pathLst>
          </a:custGeom>
          <a:solidFill>
            <a:srgbClr val="e6b9b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429240" y="55720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25-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ткань 1"/>
          <p:cNvPicPr/>
          <p:nvPr/>
        </p:nvPicPr>
        <p:blipFill>
          <a:blip r:embed="rId2"/>
          <a:stretch/>
        </p:blipFill>
        <p:spPr>
          <a:xfrm>
            <a:off x="5021280" y="2995560"/>
            <a:ext cx="31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лук"/>
          <p:cNvPicPr/>
          <p:nvPr/>
        </p:nvPicPr>
        <p:blipFill>
          <a:blip r:embed="rId3"/>
          <a:stretch/>
        </p:blipFill>
        <p:spPr>
          <a:xfrm>
            <a:off x="857160" y="2714760"/>
            <a:ext cx="2970360" cy="3557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ткань 3"/>
          <p:cNvPicPr/>
          <p:nvPr/>
        </p:nvPicPr>
        <p:blipFill>
          <a:blip r:embed="rId2"/>
          <a:stretch/>
        </p:blipFill>
        <p:spPr>
          <a:xfrm>
            <a:off x="5572080" y="2857680"/>
            <a:ext cx="304344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194"/>
          <p:cNvPicPr/>
          <p:nvPr/>
        </p:nvPicPr>
        <p:blipFill>
          <a:blip r:embed="rId3"/>
          <a:stretch/>
        </p:blipFill>
        <p:spPr>
          <a:xfrm>
            <a:off x="571680" y="2714760"/>
            <a:ext cx="4424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ткань 2"/>
          <p:cNvPicPr/>
          <p:nvPr/>
        </p:nvPicPr>
        <p:blipFill>
          <a:blip r:embed="rId2"/>
          <a:stretch/>
        </p:blipFill>
        <p:spPr>
          <a:xfrm>
            <a:off x="5603760" y="3032280"/>
            <a:ext cx="3040200" cy="301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mg--i-17313-w-640"/>
          <p:cNvPicPr/>
          <p:nvPr/>
        </p:nvPicPr>
        <p:blipFill>
          <a:blip r:embed="rId3"/>
          <a:stretch/>
        </p:blipFill>
        <p:spPr>
          <a:xfrm>
            <a:off x="428760" y="28576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6:24:08Z</dcterms:created>
  <dc:creator>Admin</dc:creator>
  <dc:description/>
  <dc:language>en-US</dc:language>
  <cp:lastModifiedBy>LEGION</cp:lastModifiedBy>
  <dcterms:modified xsi:type="dcterms:W3CDTF">2014-11-25T09:33:12Z</dcterms:modified>
  <cp:revision>6</cp:revision>
  <dc:subject/>
  <dc:title>Лабораторная работа  «Строение растительной клетки на примере клеток кожицы чешуи лука»</dc:title>
</cp:coreProperties>
</file>